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D33-CAA6-40C9-AD3E-997E313F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062-6C53-4779-9FCB-A81E0081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CB7-6D21-411D-B259-E71CBC46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1475-68A3-4615-AE2F-CBDD94F1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D58-C501-4C42-8726-1E4D0FEB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DA5-B0F9-4AFC-A9D0-69FFF4E8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9CA5-0115-4B26-B9B3-1727B191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523-AEF1-44BF-86F0-EDDD670D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7A8-53F2-451C-B725-09635C11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681-A303-495A-B736-6D55BD03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D189-F08A-44A9-955C-83D5D5E0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2049-891E-4FB6-BEA2-8F66AF8E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3FA4-B8DC-42AA-A465-8A4C16088CB8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800" spc="-1" strike="noStrike">
                <a:solidFill>
                  <a:srgbClr val="000000"/>
                </a:solidFill>
                <a:latin typeface="Calibri"/>
              </a:rPr>
              <a:t>Hurricane Floyd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September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t the coast of Florida and then moved North towards Georgia and South Carol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rrential rain and 155mph winds battered the area, bringing down power and phone lines and snapping tre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hipped up 20-foot waves along the co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xious holidaymakers and local residents fleeing the storm jammed road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a million people were evacuated from Key Biscayne, Miami Beach and Fort Lauderda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yd was more than 600 miles in diameter and was the biggest storm to hit Florida since Hurricane Andrew in 1992 (that left 26 dead, 160,000 homeless and caused $25billion of damage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yd was estimated to be three times as strong as Andre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23:56:49Z</dcterms:created>
  <dc:creator>Dell_02</dc:creator>
  <dc:description/>
  <dc:language>en-US</dc:language>
  <cp:lastModifiedBy>Dell_02</cp:lastModifiedBy>
  <dcterms:modified xsi:type="dcterms:W3CDTF">2011-01-28T00:03:10Z</dcterms:modified>
  <cp:revision>1</cp:revision>
  <dc:subject/>
  <dc:title>Hurricane Floyd</dc:title>
</cp:coreProperties>
</file>